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C33-B269-443F-AB3A-915E9F41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E53-5CC4-46AE-8395-2DD1C092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A6E-C9EC-4687-9BCF-C741F429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817-A918-4D22-B409-CF78C73E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C980-9342-4218-848D-297888E9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6BE7-175A-4228-AD61-D7F236D7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BA0B-248B-4016-AFB6-5A03A1C0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EA40-80D3-4DE0-9E52-3DB7AB29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DB10-EC4B-4B17-9268-BFFAE014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4E2E-397F-4CDA-84E5-1ADDE2ED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24BB-6599-4637-9430-B4B58973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3D0-7BC0-4282-81BA-DF279881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A346-4534-4D22-8BEF-7D981BDA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F734-A620-4623-86E7-E3C657E9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4B69-8890-4DA6-8730-4A588161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7E75-E7F8-4409-8EA9-6AB87979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B051-98B2-479F-8610-D3BB112D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706-1566-49ED-A81E-430610FA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C11-8AC6-4C04-B104-CBA8475D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543-023B-4CEB-9C27-E1F51932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E96-4E73-407C-9799-0DFEAADA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5AA-7A22-427B-8267-5568A10A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E0F-5CCF-4FB0-A42F-174275FF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EF8-59DE-4728-B548-813AD926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4A4E-181B-4A67-AF06-F83DA23B89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0587-D2F0-4AC2-A79C-F4D4456C6C3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Peop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usti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19, 2009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40384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watching!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amm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ummarizing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rry Potter and the Sorcerer of Sto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Beatle and the Bar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im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ound the Worl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uess Wh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ircui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co Syste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d Scie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east Reg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ur SS peop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atitude and Longitu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ry Star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TE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ing to U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ok ele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2859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yp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nd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te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finish off the school year well by giving 110 percent and doing my bes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remember to bring my homework every day by putting it in my binder right when I’m done with 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take my time when I do my work and not rush by taking my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4T15:32:10Z</dcterms:modified>
  <cp:revision>27</cp:revision>
  <dc:subject/>
  <dc:title>Welcome Mom and Dad!</dc:title>
</cp:coreProperties>
</file>